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5D98-2CD2-4B47-98CB-B4F05C6C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45B-668F-465E-8948-47325BC8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C49-F78D-499A-9380-E597AB09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FB5C-E953-4EF1-A930-DF384D48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EC7-A7C7-4E0B-AC5E-3F89A89F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2966-8DE9-483F-98F1-AD599179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43E-6194-4CCB-9E5B-5748B3BF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D3D2-2A2E-4271-9541-CBB038E9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772-ED2B-434A-A693-23AD3FC6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0EB4-F595-4F10-ACB3-8170D7D3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95D-A1E5-417F-9143-9F9D0B8D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5E3-1DF5-409C-8D77-8E16BD2C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B0C9-0B7F-4C1D-81DD-76DD918216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3623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крастинация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4267080" y="3124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ыдова Е.В. – педагог-психолог ГБОУ гимназии №586 Василеостровского района СП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стоит трудный разговор с родителями уче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0773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extBox 1" descr=""/>
          <p:cNvPicPr/>
          <p:nvPr/>
        </p:nvPicPr>
        <p:blipFill>
          <a:blip r:embed="rId1"/>
          <a:stretch/>
        </p:blipFill>
        <p:spPr>
          <a:xfrm>
            <a:off x="804960" y="1347840"/>
            <a:ext cx="78390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6"/>
          <p:cNvPicPr/>
          <p:nvPr/>
        </p:nvPicPr>
        <p:blipFill>
          <a:blip r:embed="rId1"/>
          <a:stretch/>
        </p:blipFill>
        <p:spPr>
          <a:xfrm>
            <a:off x="457200" y="1066680"/>
            <a:ext cx="8534520" cy="5459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6"/>
          <p:cNvPicPr/>
          <p:nvPr/>
        </p:nvPicPr>
        <p:blipFill>
          <a:blip r:embed="rId2"/>
          <a:stretch/>
        </p:blipFill>
        <p:spPr>
          <a:xfrm>
            <a:off x="609480" y="1066680"/>
            <a:ext cx="853452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685800" y="1068120"/>
            <a:ext cx="7772400" cy="474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5 ПРИЕМОВ БОРЬБЫ С ПРОКРАСТИНАЦИЕ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Arial"/>
              </a:rPr>
              <a:t> 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первый: сделать самое сложное ср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второй: устроить себе «второе ут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третий: распилить задачи на маленькие кус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четвертый: публичное обещ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пятый: таймер на десять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шестой: заблокировать отв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седьмой: сменить обстанов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восьмой: думайте о том, что вы можете сдел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девятый: создать ритуал начал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десятый: придерживаться двухминутного пра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одиннадцатый: отдыхать регуля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двенадцатый: найти комп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тринадцатый: простить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четырнадцатый: устроить себе день проду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пятнадцатый: напомнить себе, что это ваш 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1895685_1024x768"/>
          <p:cNvPicPr/>
          <p:nvPr/>
        </p:nvPicPr>
        <p:blipFill>
          <a:blip r:embed="rId1"/>
          <a:stretch/>
        </p:blipFill>
        <p:spPr>
          <a:xfrm>
            <a:off x="1428840" y="1566720"/>
            <a:ext cx="628632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IMG_0504"/>
          <p:cNvPicPr/>
          <p:nvPr/>
        </p:nvPicPr>
        <p:blipFill>
          <a:blip r:embed="rId1"/>
          <a:stretch/>
        </p:blipFill>
        <p:spPr>
          <a:xfrm>
            <a:off x="-452520" y="-247680"/>
            <a:ext cx="10049040" cy="73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image"/>
          <p:cNvPicPr/>
          <p:nvPr/>
        </p:nvPicPr>
        <p:blipFill>
          <a:blip r:embed="rId1"/>
          <a:stretch/>
        </p:blipFill>
        <p:spPr>
          <a:xfrm>
            <a:off x="1219320" y="228600"/>
            <a:ext cx="647676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cfec4464292e61f95168f530a390d942"/>
          <p:cNvPicPr/>
          <p:nvPr/>
        </p:nvPicPr>
        <p:blipFill>
          <a:blip r:embed="rId1"/>
          <a:stretch/>
        </p:blipFill>
        <p:spPr>
          <a:xfrm>
            <a:off x="304920" y="380880"/>
            <a:ext cx="8381880" cy="59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 проявления прокрастин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казания об обыденности  Откладывание.mp4" descr=""/>
          <p:cNvPicPr/>
          <p:nvPr/>
        </p:nvPicPr>
        <p:blipFill>
          <a:blip r:embed="rId1"/>
          <a:stretch/>
        </p:blipFill>
        <p:spPr>
          <a:xfrm>
            <a:off x="1600200" y="165744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317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609480" y="1692360"/>
            <a:ext cx="762156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крастина́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от англ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procrastinati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задержка, откладывание; от лат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procrastinat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с тем же значением, восходит к лат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cra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завтра или лат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crastinu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завтрашний, и лат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для, ради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 психологии склонность к постоянному откладыванию даже важных и срочных дел, приводящая к жизненным проблемам и болезненным психологическим эффек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Что происходит с нашим мозгом во время прокрастинации? - 3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56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3"/>
          <p:cNvPicPr/>
          <p:nvPr/>
        </p:nvPicPr>
        <p:blipFill>
          <a:blip r:embed="rId1"/>
          <a:stretch/>
        </p:blipFill>
        <p:spPr>
          <a:xfrm>
            <a:off x="2190600" y="1447920"/>
            <a:ext cx="4762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тетра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1456441681_uchitel-ustal"/>
          <p:cNvPicPr/>
          <p:nvPr/>
        </p:nvPicPr>
        <p:blipFill>
          <a:blip r:embed="rId1"/>
          <a:stretch/>
        </p:blipFill>
        <p:spPr>
          <a:xfrm>
            <a:off x="304920" y="1906560"/>
            <a:ext cx="8458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1462501866-aleksa_thinkstockphotos-179039030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076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писание отч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ставление отме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7T19:54:49Z</dcterms:created>
  <dc:creator>Администратор</dc:creator>
  <dc:description/>
  <dc:language>en-US</dc:language>
  <cp:lastModifiedBy>admin</cp:lastModifiedBy>
  <dcterms:modified xsi:type="dcterms:W3CDTF">2017-03-06T13:20:0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