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C9F-370C-4B25-9F5F-B17199F5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F4-A4E6-41E8-9316-B559EB41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203-7283-4559-BBE5-0B1266EF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DA9-ED81-4595-AA98-44E40AF5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F780-96BC-455D-AF62-19BCC1E9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3C97-3833-4A5D-B338-60605A6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5E6-90D8-4FD2-9476-8CE13C3F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131-DD65-4C97-8CAD-6A559EC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B0C-ADA5-452E-B0FD-F301ABC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4B7-8F76-4112-B130-330F616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779B-EF6D-4355-9D64-CEF9ABE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722-57EC-4ACA-B703-771605D1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5D41-8C75-483F-8D91-E21CFD8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7A5-CCFB-4F56-995A-E0C909D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DBB2-2ED5-4AD8-BBB6-1231A04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05A8-A7F0-423B-9004-3DB7C37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E325-783C-4746-8BDB-A8AC553D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0F2-008A-455E-B2ED-34FF06FD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588-FBE4-4161-AD8A-9EB50E9F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2C3-7F26-4E47-ABC1-352103B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CAA-91B1-4DEA-BAC8-6EC65CC3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4DF-A9D6-4E89-9D95-5B29189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994-4827-4335-B820-EBD9FAD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500-9B17-4925-B8D6-3F31760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655A-9387-4553-84DD-2AED5B993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C036-32E0-4A77-8B6A-56F42F90D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НЕМОТЕХНИ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дагог-психолог – Давыдова Е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БОУ гимназии №586 Василеостровского района СП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27446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МОТЕХНИКА (или мнемоника) – от греческого mnemonikon - искусство запоминания, означает совокупность приемов и способов, облегчающих запоминание и увеличивающих объем памяти путем образования искусственных ассоциаций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ЗАКОНЫ ЗАПОМИНАНИЯ"/>
          <p:cNvPicPr/>
          <p:nvPr/>
        </p:nvPicPr>
        <p:blipFill>
          <a:blip r:embed="rId1"/>
          <a:stretch/>
        </p:blipFill>
        <p:spPr>
          <a:xfrm>
            <a:off x="762120" y="593640"/>
            <a:ext cx="72388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914400" y="2457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учше запомнить материал к экзаменам, необходима постоянная тренировка памяти, хотя бы 20-25 минут в день. Продуктивность запоминания меняется в течение дня. Память наиболее цепкая и острая между 8 и 12 часами. Затем продуктивность запоминания начинает постепенно снижаться, а с 17 часов снова медленно растет и при отсутствии значительного утомления достигает высокого уровня в вечернее время (примерно к 19 часам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914400" y="308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значение для запоминания имеют наши чувства и эмоции. Старайтесь придавать запоминаемому материалу эмоциональную окраску, вызывая у себя определенные чувства.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емотехнические при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ссоциативные цепоч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од римской комнаты (метод Цицеро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ф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звуч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6:09:48Z</dcterms:created>
  <dc:creator>Администратор</dc:creator>
  <dc:description/>
  <dc:language>en-US</dc:language>
  <cp:lastModifiedBy>admin</cp:lastModifiedBy>
  <dcterms:modified xsi:type="dcterms:W3CDTF">2017-03-06T13:23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